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772400" cy="10058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5934-FEA7-4CD1-A1C5-F2D401DB0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82480" y="2905200"/>
            <a:ext cx="660744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82480" y="6058080"/>
            <a:ext cx="660744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28A6-D7A3-439E-909F-87191459B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82480" y="290520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968280" y="290520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82480" y="605808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968280" y="605808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D7B5-1E39-4345-A316-D3F15CD7B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82480" y="2905200"/>
            <a:ext cx="212724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816640" y="2905200"/>
            <a:ext cx="212724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50440" y="2905200"/>
            <a:ext cx="212724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82480" y="6058080"/>
            <a:ext cx="212724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816640" y="6058080"/>
            <a:ext cx="212724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50440" y="6058080"/>
            <a:ext cx="212724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3CCE-6B2E-42FF-827C-80F13C148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82480" y="2905200"/>
            <a:ext cx="6607440" cy="603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93EA-F09F-4CF4-9ABA-80756B3B1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82480" y="2905200"/>
            <a:ext cx="6607440" cy="60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1352-A4E4-4A9D-AAEE-74EFE0134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82480" y="2905200"/>
            <a:ext cx="3224160" cy="60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968280" y="2905200"/>
            <a:ext cx="3224160" cy="60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17F8-536B-4C0E-BC3E-207B6CF34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720C-D38D-4DA6-996C-93EF47945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82480" y="893880"/>
            <a:ext cx="6607440" cy="77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8120-7607-4128-AFB1-5B62B35DF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82480" y="290520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968280" y="2905200"/>
            <a:ext cx="3224160" cy="60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82480" y="605808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787D-55CC-4B13-A4FB-F306C9486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82480" y="2905200"/>
            <a:ext cx="3224160" cy="60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968280" y="290520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968280" y="605808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7E6E-D718-477E-BAA0-7CE9E36AC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82480" y="290520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968280" y="290520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82480" y="6058080"/>
            <a:ext cx="660744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8FB4-0046-4332-9EA4-D159EAA14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82480" y="2905200"/>
            <a:ext cx="6607440" cy="60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82480" y="9164160"/>
            <a:ext cx="161928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55720" y="9164160"/>
            <a:ext cx="246096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570640" y="9164160"/>
            <a:ext cx="161928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44AF6-C476-4357-93C2-78DF7AC9DF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6705720"/>
            <a:ext cx="7162560" cy="3047760"/>
          </a:xfrm>
          <a:prstGeom prst="roundRect">
            <a:avLst>
              <a:gd name="adj" fmla="val 2704"/>
            </a:avLst>
          </a:prstGeom>
          <a:solidFill>
            <a:srgbClr val="fff8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8763120"/>
            <a:ext cx="7010640" cy="685800"/>
          </a:xfrm>
          <a:prstGeom prst="roundRect">
            <a:avLst>
              <a:gd name="adj" fmla="val 2704"/>
            </a:avLst>
          </a:prstGeom>
          <a:solidFill>
            <a:srgbClr val="ffe2b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7620120"/>
            <a:ext cx="3429000" cy="1066680"/>
          </a:xfrm>
          <a:prstGeom prst="roundRect">
            <a:avLst>
              <a:gd name="adj" fmla="val 2704"/>
            </a:avLst>
          </a:prstGeom>
          <a:solidFill>
            <a:srgbClr val="ffe2b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600200" y="501480"/>
            <a:ext cx="4572000" cy="41594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243440" y="4952880"/>
            <a:ext cx="53028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y 11-13,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ional Evolutionary Synthesis Center (NESC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rham, North Carolina, U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7400"/>
                </a:solidFill>
                <a:latin typeface="Arial"/>
              </a:rPr>
              <a:t>http://gmod.org/GMOD_Summer_Sch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886200" y="7696080"/>
            <a:ext cx="3505320" cy="990720"/>
          </a:xfrm>
          <a:prstGeom prst="roundRect">
            <a:avLst>
              <a:gd name="adj" fmla="val 2704"/>
            </a:avLst>
          </a:prstGeom>
          <a:solidFill>
            <a:srgbClr val="ffe2b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86200" y="7620120"/>
            <a:ext cx="3505320" cy="274680"/>
          </a:xfrm>
          <a:prstGeom prst="roundRect">
            <a:avLst>
              <a:gd name="adj" fmla="val 10120"/>
            </a:avLst>
          </a:prstGeom>
          <a:solidFill>
            <a:srgbClr val="ff9c2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7620120"/>
            <a:ext cx="3429000" cy="274680"/>
          </a:xfrm>
          <a:prstGeom prst="roundRect">
            <a:avLst>
              <a:gd name="adj" fmla="val 10120"/>
            </a:avLst>
          </a:prstGeom>
          <a:solidFill>
            <a:srgbClr val="ff9c2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7620120"/>
            <a:ext cx="3429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mplementation Track, July 11-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and a half days of hands on training for new GMOD users on installing and using GMOD tools such as GBrowse, Apollo, CMap, Chado, and the Community Annotation 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86200" y="7620120"/>
            <a:ext cx="3505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incipal Investigator Track, July 12-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overview of what needs GMOD can address, how the GMOD community operates, and what resources are needed to implement GMOD tools.  For those who are considering using GM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8763120"/>
            <a:ext cx="7010640" cy="274680"/>
          </a:xfrm>
          <a:prstGeom prst="roundRect">
            <a:avLst>
              <a:gd name="adj" fmla="val 10120"/>
            </a:avLst>
          </a:prstGeom>
          <a:solidFill>
            <a:srgbClr val="ff7e2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9448920"/>
            <a:ext cx="72388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? Contact the GMOD Help Desk &lt;help@gmod.org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8763120"/>
            <a:ext cx="7010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urse is free but enrollment is limited.  To apply please submit a Statement of Interest, available from the GMOD web site.  Applications will be reviewed April 1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304920"/>
            <a:ext cx="7162560" cy="9448560"/>
          </a:xfrm>
          <a:custGeom>
            <a:avLst/>
            <a:gdLst>
              <a:gd name="textAreaLeft" fmla="*/ 25200 w 7162560"/>
              <a:gd name="textAreaRight" fmla="*/ 7137360 w 7162560"/>
              <a:gd name="textAreaTop" fmla="*/ 25200 h 9448560"/>
              <a:gd name="textAreaBottom" fmla="*/ 9423360 h 9448560"/>
            </a:gdLst>
            <a:ahLst/>
            <a:rect l="textAreaLeft" t="textAreaTop" r="textAreaRight" b="textAreaBottom"/>
            <a:pathLst>
              <a:path w="21600" h="28494">
                <a:moveTo>
                  <a:pt x="263" y="0"/>
                </a:moveTo>
                <a:arcTo wR="263" hR="263" stAng="16200000" swAng="-5400000"/>
                <a:lnTo>
                  <a:pt x="0" y="28231"/>
                </a:lnTo>
                <a:arcTo wR="263" hR="263" stAng="10800000" swAng="-5400000"/>
                <a:lnTo>
                  <a:pt x="21337" y="28494"/>
                </a:lnTo>
                <a:arcTo wR="263" hR="263" stAng="5400000" swAng="-5400000"/>
                <a:lnTo>
                  <a:pt x="21600" y="263"/>
                </a:lnTo>
                <a:arcTo wR="263" hR="263" stAng="0" swAng="-5400000"/>
                <a:close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6858000"/>
            <a:ext cx="7010640" cy="685800"/>
          </a:xfrm>
          <a:prstGeom prst="roundRect">
            <a:avLst>
              <a:gd name="adj" fmla="val 2704"/>
            </a:avLst>
          </a:prstGeom>
          <a:solidFill>
            <a:srgbClr val="ffe2b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6781680"/>
            <a:ext cx="7010640" cy="304920"/>
          </a:xfrm>
          <a:prstGeom prst="roundRect">
            <a:avLst>
              <a:gd name="adj" fmla="val 10120"/>
            </a:avLst>
          </a:prstGeom>
          <a:solidFill>
            <a:srgbClr val="ffbc2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4920" y="6781680"/>
            <a:ext cx="7162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MO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GMOD is a set of interoperable open source software tools for visualizing, managing and annotating genomic data. If you need to manage genomic data, consider attending this course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7T22:07:12Z</dcterms:created>
  <dc:creator>GMOD / NESCent</dc:creator>
  <dc:description/>
  <dc:language>en-US</dc:language>
  <cp:lastModifiedBy>GMOD / NESCent</cp:lastModifiedBy>
  <cp:lastPrinted>2008-03-08T00:46:14Z</cp:lastPrinted>
  <dcterms:modified xsi:type="dcterms:W3CDTF">2008-03-10T16:26:49Z</dcterms:modified>
  <cp:revision>12</cp:revision>
  <dc:subject/>
  <dc:title>PowerPoint Presentation</dc:title>
</cp:coreProperties>
</file>